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E2E8D-88A4-4156-B03A-367F08F16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D801-3F5A-4FCE-B151-E6F1D0657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070E6-54A5-4B0D-8BD9-484746A19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A59AF-F74B-4EB9-814D-03AE9B51C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0FEC-DCA6-49EB-A853-72829FCA4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485D-5928-4B4F-BA1B-B27B848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112F-C731-47AE-8D34-D49CB66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85C8-7FA6-4DBB-81A7-E64B18C8C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DDCAF-D02B-4180-888E-1C295ACCB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37C2F-051E-4444-95D5-99828700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77106-5173-49BE-91FE-BDDBE21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0CBD8-3BED-44EF-9B3C-6A87296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2801-CBED-4CC2-9C00-378E60E1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32BC3-2328-4947-8E79-8E8B4471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C327F-5347-4B26-9C19-AF286E4C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DFF5-633E-4DA4-98B9-613003F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8952D-13FB-4B86-844E-1AC0B45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4541A-C795-477A-A7BC-3602C0E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35DA3-42CB-48BB-90D6-9A72FC32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71604-A170-4EEC-A983-24FC59C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545E9-13A7-4804-A92F-7683593C3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4948-85BF-463D-8391-2FCB66FB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6E07-EB54-41EA-9CBC-022E4B3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7DBC-4ACD-49C0-98D8-65FBA55A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7C0D-2E3A-4F09-B2A9-8853CAF0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D5D2-2D65-46E1-A54B-F38523ED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0A61-4100-4FC5-BD0F-2C4D87B5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C5CE-063F-45D0-B8E3-2382D87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3602160"/>
            <a:ext cx="91425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2327-7F78-43F9-A710-6F666F8F2DE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E1F1-57FC-4FA4-B905-C24106BE5CB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Заголовок 1"/>
          <p:cNvGrpSpPr/>
          <p:nvPr/>
        </p:nvGrpSpPr>
        <p:grpSpPr>
          <a:xfrm>
            <a:off x="676440" y="1073160"/>
            <a:ext cx="11052000" cy="3425760"/>
            <a:chOff x="676440" y="1073160"/>
            <a:chExt cx="11052000" cy="3425760"/>
          </a:xfrm>
        </p:grpSpPr>
        <p:pic>
          <p:nvPicPr>
            <p:cNvPr id="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6440" y="1073160"/>
              <a:ext cx="110520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38360" y="1106640"/>
              <a:ext cx="1092960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фекты оказания медицинской помощи, выявленные ООО «СМК «РЕСО-Мед»  и ООО «МСК «МЕДСТРАХ» в ГБУЗ МО «Балашихинская областная больница» 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6 месяцев 20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4"/>
          <p:cNvSpPr/>
          <p:nvPr/>
        </p:nvSpPr>
        <p:spPr>
          <a:xfrm>
            <a:off x="738360" y="4633920"/>
            <a:ext cx="1092960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управления медицинской эксперти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й области ООО «СМК РЕСО-Мед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м.н. Супрун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6"/>
          <p:cNvGrpSpPr/>
          <p:nvPr/>
        </p:nvGrpSpPr>
        <p:grpSpPr>
          <a:xfrm>
            <a:off x="603360" y="5827680"/>
            <a:ext cx="11125080" cy="665280"/>
            <a:chOff x="603360" y="5827680"/>
            <a:chExt cx="11125080" cy="665280"/>
          </a:xfrm>
        </p:grpSpPr>
        <p:pic>
          <p:nvPicPr>
            <p:cNvPr id="9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03360" y="5827680"/>
              <a:ext cx="11125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66720" y="5859360"/>
              <a:ext cx="11001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нтябрь 2021 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2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Объект 3"/>
          <p:cNvGrpSpPr/>
          <p:nvPr/>
        </p:nvGrpSpPr>
        <p:grpSpPr>
          <a:xfrm>
            <a:off x="712800" y="762120"/>
            <a:ext cx="10620360" cy="6456240"/>
            <a:chOff x="712800" y="762120"/>
            <a:chExt cx="10620360" cy="6456240"/>
          </a:xfrm>
        </p:grpSpPr>
        <p:pic>
          <p:nvPicPr>
            <p:cNvPr id="117" name="Объект 3" descr=""/>
            <p:cNvPicPr/>
            <p:nvPr/>
          </p:nvPicPr>
          <p:blipFill>
            <a:blip r:embed="rId1"/>
            <a:stretch/>
          </p:blipFill>
          <p:spPr>
            <a:xfrm>
              <a:off x="712800" y="762120"/>
              <a:ext cx="10620360" cy="64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952560" y="1000080"/>
              <a:ext cx="101440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8000" spc="-1" strike="noStrike">
                  <a:solidFill>
                    <a:srgbClr val="262699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692280"/>
            <a:ext cx="103503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ООО «СМК «РЕСО-Мед» от ГБУЗ МО «Балашихинская областная больница» - 228 923медицинских услуг на сумму 480 687 397,00 руб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25520" y="3719520"/>
            <a:ext cx="10783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БУЗ МО «Балашихинская областная больниц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7 169 медицинских услуг на сумму 81 516 219,00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6760" y="620280"/>
            <a:ext cx="1079820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- 40 300 страховым случаям, что составило 17,6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6 554 случаев (2,9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57360" y="3429000"/>
            <a:ext cx="10440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– 7 430 страховым случаев, что составило 15,8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1 286 случаев (2,7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600" y="836640"/>
            <a:ext cx="11230200" cy="60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контрольно-экспертных мероприятий за период январь – июнь 2021 год выявлены наруш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151страховом случае (1,8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20 082 868,8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195 111,33 рубл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ы нарушения в 963 случаях (2,1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3 916 636,0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52 074,36 рублей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11018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количество выявленных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46000" y="1736640"/>
          <a:ext cx="4673880" cy="4500720"/>
        </p:xfrm>
        <a:graphic>
          <a:graphicData uri="http://schemas.openxmlformats.org/drawingml/2006/table">
            <a:tbl>
              <a:tblPr/>
              <a:tblGrid>
                <a:gridCol w="965160"/>
                <a:gridCol w="1252800"/>
                <a:gridCol w="1349280"/>
                <a:gridCol w="1106640"/>
              </a:tblGrid>
              <a:tr h="456120"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111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5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90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 532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 9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484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 56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584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2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836 81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6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6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10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18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240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 35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40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0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3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03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94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 245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940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45 39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43 68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636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3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32 0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30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16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 82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82 868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111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ик 4"/>
          <p:cNvSpPr/>
          <p:nvPr/>
        </p:nvSpPr>
        <p:spPr>
          <a:xfrm>
            <a:off x="1640880" y="1387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7103880" y="138744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613560" y="1728720"/>
          <a:ext cx="4522680" cy="4500720"/>
        </p:xfrm>
        <a:graphic>
          <a:graphicData uri="http://schemas.openxmlformats.org/drawingml/2006/table">
            <a:tbl>
              <a:tblPr/>
              <a:tblGrid>
                <a:gridCol w="960480"/>
                <a:gridCol w="1243080"/>
                <a:gridCol w="1199880"/>
                <a:gridCol w="1119240"/>
              </a:tblGrid>
              <a:tr h="428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6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56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20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8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8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7 82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 657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599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7 71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 90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5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3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32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 7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16 6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7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620640"/>
            <a:ext cx="11018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явленных дефектов в структуре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609200" y="1738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501320" y="174456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10" descr=""/>
          <p:cNvPicPr/>
          <p:nvPr/>
        </p:nvPicPr>
        <p:blipFill>
          <a:blip r:embed="rId1"/>
          <a:stretch/>
        </p:blipFill>
        <p:spPr>
          <a:xfrm>
            <a:off x="480960" y="1554120"/>
            <a:ext cx="5181480" cy="446868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11" descr=""/>
          <p:cNvPicPr/>
          <p:nvPr/>
        </p:nvPicPr>
        <p:blipFill>
          <a:blip r:embed="rId2"/>
          <a:stretch/>
        </p:blipFill>
        <p:spPr>
          <a:xfrm>
            <a:off x="5883120" y="2206800"/>
            <a:ext cx="5828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50800" y="836640"/>
            <a:ext cx="1087452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четный период контрольно – экспертные мероприятия проводились в соответствии с действующими нормативно – правовыми ак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каз Федерального фонда обязательного медицинского страхования от 28.02.2019 № 36 «Об утверждении Порядка организации и проведения контроля объемов, сроков, качества и условий предоставления медицинской помощи по обязательному медицинскому страхованию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каз Министерства здравоохранения Российской Федерации от 19.03.2021 № 231н «Об утверждении порядка проведения контроля объемов, сроков, качества и условий предоставления медицинской помощи по обязательному медицинскому страхованию застрахованным лицам, а также ее финансового обеспечения», вступил в силу 26.05.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50800" y="981000"/>
            <a:ext cx="11090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ыявляемые деф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3.2.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невыполнение, несвоевременное или ненадлежащее выполнение необходимых пациенту диагностических и (или) лечебных мероприятий, оперативных вмешательств в соответствии с порядками оказания медицинской помощи, на основе клинических рекомендаций и с учетом стандартов медицинской помощи: не повлиявшее на состояние здоровья застрахованного лиц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4.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отсутствие в медицинской документации результатов обследований, осмотров, консультаций специалистов, дневниковых записей, позволяющих оценить динамику состояния здоровья застрахованного лица, объем, характер, условия предоставления медицинской помощи и провести оценку качества оказанной медицинской помощ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50800" y="981000"/>
            <a:ext cx="1101744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ГБУЗ МО «Балашихинская областная больница»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дицинскую помощь оказывать в соответствии со ст. 37 Федерального закона от 21.11.2011 № 323-ФЗ «Об основах охраны здоровья граждан в Российской Федерации» с учетом порядков и стандартов медицинской помощи, утвержденных уполномоченным федеральным органом исполнительной   власти   и  обязательными   для   исполнения   на территории Российской Федерации всеми медицинскими организациями на основе клинических рекоменд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лжным образом оформлять первичную медицинскую докум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  <Company>ЗАО Страховая группа "УРАЛСИБ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1T04:54:57Z</dcterms:created>
  <dc:creator>Администратор</dc:creator>
  <dc:description/>
  <cp:keywords/>
  <dc:language>en-US</dc:language>
  <cp:lastModifiedBy>Супрун Елена Владимировна</cp:lastModifiedBy>
  <cp:lastPrinted>2017-06-28T08:39:07Z</cp:lastPrinted>
  <dcterms:modified xsi:type="dcterms:W3CDTF">2021-09-21T13:25:56Z</dcterms:modified>
  <cp:revision>30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Широкоэкран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9</vt:r8>
  </property>
</Properties>
</file>